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42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10.png" ContentType="image/png"/>
  <Override PartName="/ppt/media/image35.jpeg" ContentType="image/jpeg"/>
  <Override PartName="/ppt/media/image1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C3BB-A0D6-403A-BB21-9C017050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0A2-64B6-427F-B754-D94D9F8C0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B88-6350-4B6F-B240-09C6604BA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98B5-A362-4EAD-8740-045463E4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F936-F569-4CBA-8030-1343C3E5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292-DA33-4F4E-A77A-2A378F9B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6DD-74AB-49F3-ABE5-4A93C311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7C6E-CCE2-4151-9950-19EC8DD98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F5D4-37AC-4F4A-9DC1-868DE988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3F58-D063-4438-8446-C91028B2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10C-7257-437D-AFDB-49E7BEB2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F238-CD05-4B97-BEDC-CB704C5E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98A1-27C2-4A84-B6FA-26CC5F4F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247A-BC03-4354-8E2B-70F255AF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CBFD-4507-4EB4-A4A1-809C8DD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5D0F-4D07-457B-BAD6-D1B75F4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4B36B-7C24-4631-B841-EA21804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72F8-1800-48D1-B0A4-8BB23CDB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578ED-1855-4BE8-A8D9-A025C3E0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B32-0B15-488E-9D0A-5F66B51A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1A6-679E-4F2E-955C-46F0893C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3B9-7C41-4B13-9E6A-AFE489A6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B33B-EB45-47BC-91BB-1301C0E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E52-3C26-4960-8E34-F6999C04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2D7-524F-487E-9660-FCD5A01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100-8112-4F1A-A068-0FC4985C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9DA-CBFE-4C4C-A829-BF18A1D4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1FB-E8E5-4F29-8804-EBD29306F96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B309-DAF9-4ACB-B2C7-EF99B854171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edited lu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5" name="▶ Anatomical Tutorial During Trans-Nasal Endoscopy.mp4" descr=""/>
          <p:cNvPicPr/>
          <p:nvPr/>
        </p:nvPicPr>
        <p:blipFill>
          <a:blip r:embed="rId1"/>
          <a:stretch/>
        </p:blipFill>
        <p:spPr>
          <a:xfrm>
            <a:off x="0" y="0"/>
            <a:ext cx="9171000" cy="687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228600" y="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two large passageways that lead from the trachea to your lungs (one for each l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he bronchi are further subdivided into bronchi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eventually, the further subdivisions lead to tiny 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cs call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lveoli are in clusters, like gr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apillaries surrounding each alveolus is w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hange of gases with the blood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muscle that causes you to br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hiccups are involuntary contractions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676520" y="1179360"/>
            <a:ext cx="5486400" cy="5375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10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10  The Bronchi and Lobules of the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295280" y="1166760"/>
            <a:ext cx="6858000" cy="5356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63996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381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ion = gas exchange --  Occurs at the levels of the lungs and tissues (external respiration) and cell (internal or cellular respiratio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spira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Pulmonary ventilation: movement of air in and ou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 the lun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 in the alveol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transport in the bloo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 exchanges between blood and tissu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igure_16_01_l"/>
          <p:cNvPicPr/>
          <p:nvPr/>
        </p:nvPicPr>
        <p:blipFill>
          <a:blip r:embed="rId1"/>
          <a:stretch/>
        </p:blipFill>
        <p:spPr>
          <a:xfrm>
            <a:off x="4506840" y="0"/>
            <a:ext cx="4637160" cy="6832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espiratory airway: Alveoli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466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ar wall is formed by simple squamous epithelium = type I cells (SSE)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iratory membrane: membrane separating alveolus from blood capilla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urface area from the numerous alveoli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ter gas ex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ce of elastic fibers between 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3" descr="figure_16_05_ab_l"/>
          <p:cNvPicPr/>
          <p:nvPr/>
        </p:nvPicPr>
        <p:blipFill>
          <a:blip r:embed="rId1"/>
          <a:stretch/>
        </p:blipFill>
        <p:spPr>
          <a:xfrm>
            <a:off x="457200" y="941400"/>
            <a:ext cx="8305920" cy="3537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963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way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34" name="Picture 4" descr="figure_16_03_l"/>
          <p:cNvPicPr/>
          <p:nvPr/>
        </p:nvPicPr>
        <p:blipFill>
          <a:blip r:embed="rId1"/>
          <a:stretch/>
        </p:blipFill>
        <p:spPr>
          <a:xfrm>
            <a:off x="3541680" y="990720"/>
            <a:ext cx="560232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31240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per airway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nose to pharyn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airway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Conducting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ynx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ronchi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Respiratory airw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veol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lood supply to the lungs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figure_16_06_l"/>
          <p:cNvPicPr/>
          <p:nvPr/>
        </p:nvPicPr>
        <p:blipFill>
          <a:blip r:embed="rId1"/>
          <a:stretch/>
        </p:blipFill>
        <p:spPr>
          <a:xfrm>
            <a:off x="1066680" y="762120"/>
            <a:ext cx="7543800" cy="3614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figure_16_05d_l"/>
          <p:cNvPicPr/>
          <p:nvPr/>
        </p:nvPicPr>
        <p:blipFill>
          <a:blip r:embed="rId2"/>
          <a:stretch/>
        </p:blipFill>
        <p:spPr>
          <a:xfrm>
            <a:off x="5486400" y="4287960"/>
            <a:ext cx="2813040" cy="2570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99960"/>
            <a:ext cx="8763120" cy="192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2  The Respiratory Epithelium of the Nasal Cavity and Conducting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858000" cy="540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uman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3" descr="respiratorydetail"/>
          <p:cNvPicPr/>
          <p:nvPr/>
        </p:nvPicPr>
        <p:blipFill>
          <a:blip r:embed="rId1"/>
          <a:stretch/>
        </p:blipFill>
        <p:spPr>
          <a:xfrm>
            <a:off x="2209680" y="1600200"/>
            <a:ext cx="4857840" cy="4915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series of filtration mechani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ves particles and pathoge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oblet cell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ucous gla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 mucus that bathes exposed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l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eep debris trapped in mucus toward the pharynx (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mucus escalat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cilia"/>
          <p:cNvPicPr/>
          <p:nvPr/>
        </p:nvPicPr>
        <p:blipFill>
          <a:blip r:embed="rId1"/>
          <a:stretch/>
        </p:blipFill>
        <p:spPr>
          <a:xfrm>
            <a:off x="4952880" y="2057400"/>
            <a:ext cx="307512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espiratory Defense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Filt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nasal cavity removes large partic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lveolar macroph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ngulf small particles that reach lung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ose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 enters the respiratory syst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nostrils or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xternal na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o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hai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vestib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the first particle filtration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nose"/>
          <p:cNvPicPr/>
          <p:nvPr/>
        </p:nvPicPr>
        <p:blipFill>
          <a:blip r:embed="rId1"/>
          <a:stretch/>
        </p:blipFill>
        <p:spPr>
          <a:xfrm>
            <a:off x="0" y="990720"/>
            <a:ext cx="5181480" cy="4114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BobMartin"/>
          <p:cNvPicPr/>
          <p:nvPr/>
        </p:nvPicPr>
        <p:blipFill>
          <a:blip r:embed="rId2"/>
          <a:stretch/>
        </p:blipFill>
        <p:spPr>
          <a:xfrm>
            <a:off x="1905120" y="5800680"/>
            <a:ext cx="838080" cy="105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Nasal Cavit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3760" y="76176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sept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left and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ous secretions from paranasal sinus and tear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ean and moisten the nasal ca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portion of nasal cavity is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olfactory reg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sense of sm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asal cavity"/>
          <p:cNvPicPr/>
          <p:nvPr/>
        </p:nvPicPr>
        <p:blipFill>
          <a:blip r:embed="rId1"/>
          <a:stretch/>
        </p:blipFill>
        <p:spPr>
          <a:xfrm>
            <a:off x="0" y="1295280"/>
            <a:ext cx="4952880" cy="4491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ir Flow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vestibu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internal nar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up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iddle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inferior concha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57600" y="1143000"/>
            <a:ext cx="5164200" cy="5486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alat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3886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Hard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s floor of nas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s nasal and o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oft pal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nds posterior to hard pa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vides superior nasopharynx from lower pharyn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4038480" y="1143000"/>
            <a:ext cx="4518000" cy="480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-2289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al Mucosa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7339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and humidify inhaled air for arrival at lower respiratory orga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 through mouth bypasses this important ste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362" t="14579" r="2779" b="12455"/>
          <a:stretch/>
        </p:blipFill>
        <p:spPr>
          <a:xfrm>
            <a:off x="3613320" y="609480"/>
            <a:ext cx="53784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chamber shared by digestive and respiratory 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internal nares to entrances to larynx and esophag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normal-lung-anatomy-picture-c"/>
          <p:cNvPicPr/>
          <p:nvPr/>
        </p:nvPicPr>
        <p:blipFill>
          <a:blip r:embed="rId1"/>
          <a:stretch/>
        </p:blipFill>
        <p:spPr>
          <a:xfrm>
            <a:off x="3809880" y="533520"/>
            <a:ext cx="5334120" cy="42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Divisions of the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Nas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Or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aryngo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How it works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514600" y="121932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 simple task of the respiratory system is to supply the blood cells with oxy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-2-6-4-0-0-0-0-0-0-0"/>
          <p:cNvPicPr/>
          <p:nvPr/>
        </p:nvPicPr>
        <p:blipFill>
          <a:blip r:embed="rId1"/>
          <a:stretch/>
        </p:blipFill>
        <p:spPr>
          <a:xfrm>
            <a:off x="3657600" y="2362320"/>
            <a:ext cx="4952880" cy="39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Nasopharynx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ins pharyngeal tonsils and openings to left and right auditory tub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22860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Oro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960" y="11430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ddle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unicates with oral cav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TonsilsAdenoid-Mouth"/>
          <p:cNvPicPr/>
          <p:nvPr/>
        </p:nvPicPr>
        <p:blipFill>
          <a:blip r:embed="rId2"/>
          <a:stretch/>
        </p:blipFill>
        <p:spPr>
          <a:xfrm>
            <a:off x="609480" y="3505320"/>
            <a:ext cx="4191120" cy="301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1" name="Content Placeholder 3" descr=""/>
          <p:cNvPicPr/>
          <p:nvPr/>
        </p:nvPicPr>
        <p:blipFill>
          <a:blip r:embed="rId1"/>
          <a:stretch/>
        </p:blipFill>
        <p:spPr>
          <a:xfrm>
            <a:off x="2209680" y="-444600"/>
            <a:ext cx="6172200" cy="8229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83" name="Content Placeholder 3" descr="2012-01-30_09.12.45.jpg"/>
          <p:cNvPicPr/>
          <p:nvPr/>
        </p:nvPicPr>
        <p:blipFill>
          <a:blip r:embed="rId1"/>
          <a:stretch/>
        </p:blipFill>
        <p:spPr>
          <a:xfrm>
            <a:off x="0" y="0"/>
            <a:ext cx="5257800" cy="701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Laryngopharynx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ior portion of the ph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hyoid bone to entrance to larynx and esophagu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Illustration showing parts of the pharynx, including nasopharynx, oropharynx and laryngopharynx."/>
          <p:cNvPicPr/>
          <p:nvPr/>
        </p:nvPicPr>
        <p:blipFill>
          <a:blip r:embed="rId1"/>
          <a:stretch/>
        </p:blipFill>
        <p:spPr>
          <a:xfrm>
            <a:off x="4114800" y="1371600"/>
            <a:ext cx="4462560" cy="449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rcRect l="7087" t="19471" r="7068" b="11110"/>
          <a:stretch/>
        </p:blipFill>
        <p:spPr>
          <a:xfrm>
            <a:off x="0" y="7621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960" y="-228960"/>
            <a:ext cx="601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s of the L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99036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large, unpaired cartilages form th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aryn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hyroid cartila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ricoid cartil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pi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495680" y="838080"/>
            <a:ext cx="4373640" cy="5334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hyroid Cartilage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876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Adam’s ap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s anterior and lateral walls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hyoid bone, epiglottis, and laryngeal cartil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800600" y="1219320"/>
            <a:ext cx="4186080" cy="5105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3600" spc="-1" strike="noStrike">
                <a:solidFill>
                  <a:srgbClr val="00cc99"/>
                </a:solidFill>
                <a:latin typeface="Impact"/>
              </a:rPr>
              <a:t>Cricoid Cartil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hyaline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posterior portion of larynx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first tracheal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4191120" y="457200"/>
            <a:ext cx="4686120" cy="5715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Epi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ed of elastic cartil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gaments attach to thyroid cartilage and hyoi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13987" t="39307" r="54588" b="11110"/>
          <a:stretch/>
        </p:blipFill>
        <p:spPr>
          <a:xfrm>
            <a:off x="3886200" y="762120"/>
            <a:ext cx="47498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When we breathe.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400800" y="990720"/>
            <a:ext cx="2514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iration is achieved through the mouth, nose, trachea, lungs and diaphragm. Oxygen then enters through the mouth and n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YSZ_surface_sml"/>
          <p:cNvPicPr/>
          <p:nvPr/>
        </p:nvPicPr>
        <p:blipFill>
          <a:blip r:embed="rId1"/>
          <a:stretch/>
        </p:blipFill>
        <p:spPr>
          <a:xfrm>
            <a:off x="1371600" y="1219320"/>
            <a:ext cx="5029200" cy="37875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3505320" y="685800"/>
            <a:ext cx="18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ygen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artilage Function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vents entry of food and liquids into respiratory tract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swallow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rynx is elev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piglottis folds back over glot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yroid and cricoid cartilages support and protec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glott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ntrance to trache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Glotti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4939" t="33354" r="4920" b="24992"/>
          <a:stretch/>
        </p:blipFill>
        <p:spPr>
          <a:xfrm>
            <a:off x="152280" y="1311120"/>
            <a:ext cx="8915400" cy="318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Produc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ir passing through glotti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brates vocal fo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sound wa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2514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ound Var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38862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nd is vari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sion on vocal f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ary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ch is done at the l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atomy of the Trache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8240760" y="658332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533520" y="914400"/>
            <a:ext cx="7696080" cy="577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Trachea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3429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the windpip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s from the cricoid cartilage into pulmonary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it branches in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eft pulmonary bronch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rcRect l="10709" t="15303" r="10685" b="8331"/>
          <a:stretch/>
        </p:blipFill>
        <p:spPr>
          <a:xfrm>
            <a:off x="3429000" y="1143000"/>
            <a:ext cx="5562720" cy="4176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Tracheal Cartilage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–20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racheal cartilag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en and protect airw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ontinuous where trachea contacts esophag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s of each tracheal cartilage are connect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lastic ligament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rachealis mus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Primary Bronchi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 prim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an internal ridge (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i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20574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Right Primary Bronchu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4290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larger in diameter than the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ends at a steeper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SEATS TODA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lasses (except 2a, 4a, 2b, 3b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ON THE RESPIRATORY SYSTEM next FRIDA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ung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886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ef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ight lu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left and right pleural cav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a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erior portion of each lung rests on superior surface of diaphrag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igh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3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, middle,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ed by horizontal and oblique fis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0492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Organization of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spiratory system is divided into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upp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bove the larynx, an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lower respiratory syste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from the larynx dow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Left Lung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2 lobes: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erior and inferi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separated by an oblique fis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9751" t="9210" r="6941" b="7087"/>
          <a:stretch/>
        </p:blipFill>
        <p:spPr>
          <a:xfrm>
            <a:off x="4038480" y="304920"/>
            <a:ext cx="4572000" cy="5943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Relationship between Lungs and Hear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rcRect l="7087" t="23634" r="5994" b="16662"/>
          <a:stretch/>
        </p:blipFill>
        <p:spPr>
          <a:xfrm>
            <a:off x="228600" y="1295280"/>
            <a:ext cx="8763120" cy="4651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Lung Shap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267080" y="-1295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ght lung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wi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upward by liv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76212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ft lu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lon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displaced leftward by the heart forming 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ardiac notc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 Primary Bronch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 to for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econdary bronch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lobar bronchi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5334120" y="1154160"/>
            <a:ext cx="3809880" cy="4930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Secondary Bronchi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4343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 to form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tiary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also called th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egmental bronch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ronchitis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lammation of bronchial wall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constriction and breathing difficul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rcRect l="8362" t="9210" r="5552" b="7087"/>
          <a:stretch/>
        </p:blipFill>
        <p:spPr>
          <a:xfrm>
            <a:off x="4238640" y="685800"/>
            <a:ext cx="4905360" cy="61722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733920" y="-36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Bronchio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small bronch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ranches into multiple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bronchio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nchioles branch into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tertiary bronchus forms about 6500 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lveolar Organization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429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iratory bronchioles are connected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ng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duc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nd at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ar sac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mbers connected to many individual alveoli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0948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An Alveolu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an extensive network of capill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urrounded by elastic fibers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6972" t="16722" r="2779" b="14598"/>
          <a:stretch/>
        </p:blipFill>
        <p:spPr>
          <a:xfrm>
            <a:off x="3124080" y="685800"/>
            <a:ext cx="6019920" cy="5924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Inflammation of Lobules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pneumon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fluid to leak into alveol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s function of respiratory membra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omponents of the Respiratory System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7739280" y="644364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rcRect l="15303" t="23164" r="16662" b="21040"/>
          <a:stretch/>
        </p:blipFill>
        <p:spPr>
          <a:xfrm>
            <a:off x="1600200" y="990720"/>
            <a:ext cx="5529240" cy="5867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echanics of breathing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24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yle’s law: The pressure of a gas in a closed container is inversely proportional to the volume of the contain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 flow in the lungs is driven by the differences in pressure between the atmosphere and the alveo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atm is constant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nges in P.alv drive venti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BOYLE"/>
          <p:cNvPicPr/>
          <p:nvPr/>
        </p:nvPicPr>
        <p:blipFill>
          <a:blip r:embed="rId1"/>
          <a:stretch/>
        </p:blipFill>
        <p:spPr>
          <a:xfrm>
            <a:off x="5446800" y="1424160"/>
            <a:ext cx="3579840" cy="4389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Gas Pressure and Volum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rcRect l="28719" t="26857" r="28695" b="20799"/>
          <a:stretch/>
        </p:blipFill>
        <p:spPr>
          <a:xfrm>
            <a:off x="1523880" y="990720"/>
            <a:ext cx="6096240" cy="5790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Atmospheric Pressure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ight of air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several important physiological effect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Boyle’s Law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22860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es the relationship between gas pressure and vol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volume decreases, press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contained g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pressure forces molecules closer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vement of gas molecules exerts pressure on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7735320" y="6443640"/>
            <a:ext cx="109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Mechanisms of Pulmonary Ventilation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rcRect l="15303" t="16722" r="12499" b="13524"/>
          <a:stretch/>
        </p:blipFill>
        <p:spPr>
          <a:xfrm>
            <a:off x="1812960" y="762120"/>
            <a:ext cx="4816440" cy="601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7737480" y="644364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a,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382" t="25023" r="5994" b="16662"/>
          <a:stretch/>
        </p:blipFill>
        <p:spPr>
          <a:xfrm>
            <a:off x="304920" y="990720"/>
            <a:ext cx="8762760" cy="477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Muscles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742160" y="6443640"/>
            <a:ext cx="134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Figure 23–16c,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rcRect l="2792" t="19471" r="2773" b="13889"/>
          <a:stretch/>
        </p:blipFill>
        <p:spPr>
          <a:xfrm>
            <a:off x="152280" y="1143000"/>
            <a:ext cx="8991720" cy="4903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3 Muscle Groups of </a:t>
            </a:r>
            <a:r>
              <a:rPr b="0" lang="en-US" sz="4000" spc="-1" strike="noStrike">
                <a:solidFill>
                  <a:srgbClr val="00cc99"/>
                </a:solidFill>
                <a:latin typeface="Impact"/>
              </a:rPr>
              <a:t>Inhalation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Diaphragm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action draws air into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5% of normal air m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External intracostal muscles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 inha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 of normal 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3657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cc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Accessory musc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sist in elevating rib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nocleidomast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leura and negative pressu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4191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neumothorax: lung collapse due to air entering in the pleural ca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28720" y="761760"/>
            <a:ext cx="3814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8" descr="19589"/>
          <p:cNvPicPr/>
          <p:nvPr/>
        </p:nvPicPr>
        <p:blipFill>
          <a:blip r:embed="rId1"/>
          <a:stretch/>
        </p:blipFill>
        <p:spPr>
          <a:xfrm>
            <a:off x="4724280" y="6858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0" descr="chest_tube"/>
          <p:cNvPicPr/>
          <p:nvPr/>
        </p:nvPicPr>
        <p:blipFill>
          <a:blip r:embed="rId2"/>
          <a:stretch/>
        </p:blipFill>
        <p:spPr>
          <a:xfrm>
            <a:off x="5334120" y="441972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80880" y="304920"/>
            <a:ext cx="86108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7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99"/>
                </a:solidFill>
                <a:latin typeface="Arial"/>
              </a:rPr>
              <a:t>Respiratory Disorders: Chronic Obstructive Pulmonary Disease (COPD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80880" y="2355840"/>
            <a:ext cx="824544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atures of these dis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tients almost always have a history of smo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red breathing (dyspnea) becomes progressively more sev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ughing and frequent pulmonary infections are comm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80880" y="304920"/>
            <a:ext cx="8382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Arial"/>
              </a:rPr>
              <a:t>Chronic Obstructive Pulmonary Disease (COPD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380880" y="2057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rcRect l="0" t="0" r="0" b="2920"/>
          <a:stretch/>
        </p:blipFill>
        <p:spPr>
          <a:xfrm>
            <a:off x="1992240" y="1295280"/>
            <a:ext cx="4937040" cy="50990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9"/>
          <p:cNvSpPr/>
          <p:nvPr/>
        </p:nvSpPr>
        <p:spPr>
          <a:xfrm>
            <a:off x="6858000" y="6126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13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The Respiratory Trac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conducting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nasal cav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terminal bronchio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sts of a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respiratory por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respiratory bronchio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Are air-filled pockets within the lu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all gas exchange takes 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Lung Cance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380880" y="1527120"/>
            <a:ext cx="8245440" cy="45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unts for 1/3 of all cancer deaths in the United St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creased incidence associated with smok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ree common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quamous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eno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8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all cell carcin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80880" y="304920"/>
            <a:ext cx="8610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Sudden Infant Death syndrome (SIDS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380880" y="2098800"/>
            <a:ext cx="824544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pparently healthy infant stops breathing and dies during slee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me cases are thought to be a problem of the neural respiratory control cent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ne third of cases appear to be due to heart rhythm abnormaliti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sthma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80880" y="2590920"/>
            <a:ext cx="8245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ronic inflamed hypersensitive bronchiole passag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sponse to irritants with dyspnea, coughing, and wheez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Developmental Aspects of the Respiratory System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7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380880" y="2558880"/>
            <a:ext cx="824544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mportant birth defect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ystic fibrosis – oversecretion of thick mucus clogs the respirato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7240" indent="-230040">
              <a:lnSpc>
                <a:spcPct val="90000"/>
              </a:lnSpc>
              <a:spcAft>
                <a:spcPts val="1874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eft pa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80880" y="304920"/>
            <a:ext cx="8382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2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Aging Effect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80880" y="1843200"/>
            <a:ext cx="824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asticity of lungs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ital capacity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lood oxygen levels decreas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imulating effects of carbon dioxide decre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ore risks of respiratory tract infec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304920"/>
            <a:ext cx="83822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99"/>
                </a:solidFill>
                <a:latin typeface="Arial"/>
              </a:rPr>
              <a:t>Respiratory Rate Changes Throughout Life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Verdana"/>
              </a:rPr>
              <a:t>Slide 13.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7"/>
          <p:cNvSpPr/>
          <p:nvPr/>
        </p:nvSpPr>
        <p:spPr>
          <a:xfrm>
            <a:off x="380880" y="1828800"/>
            <a:ext cx="824544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ewborns – 40 to 8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fants – 30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ge 5 – 25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dults – 12 to 18 respirations per minu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ate often increases somewhat with old ag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5228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mage of the Respirator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7696080" y="64771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.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094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-95760"/>
            <a:ext cx="876312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Figure 23.3  The Nose, Nasal Cavity, and Pharynx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rcRect l="0" t="0" r="0" b="4002"/>
          <a:stretch/>
        </p:blipFill>
        <p:spPr>
          <a:xfrm>
            <a:off x="1600200" y="1176480"/>
            <a:ext cx="5867280" cy="5364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1T20:51:24Z</dcterms:created>
  <dc:creator>NOkazaki</dc:creator>
  <dc:description/>
  <dc:language>en-US</dc:language>
  <cp:lastModifiedBy>Andrew S. Hansell</cp:lastModifiedBy>
  <dcterms:modified xsi:type="dcterms:W3CDTF">2015-02-11T13:20:21Z</dcterms:modified>
  <cp:revision>58</cp:revision>
  <dc:subject/>
  <dc:title>The Respiratory system</dc:title>
</cp:coreProperties>
</file>